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E96-CD60-451D-988D-CBD01BDB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E38-2388-40F5-AF31-3FA49D43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9A2-4CCE-4398-9654-59BBC168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167-677C-437B-9BB2-EA24B020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11C-0BBF-4BBF-A07E-57691D68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37A-CE59-448A-BB32-8C21A1E4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02B-55E8-4BEF-9890-0B3E7D24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E98-0709-4EFC-BD81-4B16A888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F68-C839-4D3C-9888-E492E057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6E1-4B6F-47B1-A3E7-2CFD0A19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E3D-1DB9-4BC6-A64B-CB9466F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D0D-0BF1-4E35-A058-6BCEEFF2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CDE3-67F1-41CC-8E0E-0E5C94F2F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3573360"/>
            <a:ext cx="518148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أبتاه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38480" y="1905120"/>
            <a:ext cx="49532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خطئتُ إليك وإلـى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56000" y="2060640"/>
            <a:ext cx="4572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أستحقُّ  أن أُدعَى لكَ ابناً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19720" y="1981080"/>
            <a:ext cx="45720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اتوا أجملَ حُلَّةٍ وأَلبسُوه، وضعوا في يدِهِ خاتماً،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9720" y="1981080"/>
            <a:ext cx="45720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أنَّ إبنيَ هذا كان ميتاً فعاش، وكان ضالاً فوُجِدَ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1905120"/>
            <a:ext cx="49532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خطئتُ إليك وإلـى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27640" y="2133720"/>
            <a:ext cx="4572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أستحقُّ  أن أُدعَى لكَ ابناً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2:41Z</dcterms:created>
  <dc:creator>Charbel Azar</dc:creator>
  <dc:description/>
  <dc:language>en-US</dc:language>
  <cp:lastModifiedBy>-</cp:lastModifiedBy>
  <dcterms:modified xsi:type="dcterms:W3CDTF">2003-01-20T12:10:43Z</dcterms:modified>
  <cp:revision>2</cp:revision>
  <dc:subject/>
  <dc:title>PowerPoint Presentation</dc:title>
</cp:coreProperties>
</file>